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155-A210-46DE-8FF9-A4867599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E28-CC89-4F8F-8698-496367E8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8BE-2A38-4381-8E4A-0B9D6E35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A9F-BB44-4804-B44D-ED639FB5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6C8-E957-41C2-9814-09A7092A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503-0B8A-4E12-A587-5CADDD34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A2E-D1D8-40F9-AF5B-543EE85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01E-74BC-44D3-8F2D-D5F252C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A57-ED83-4528-8779-5DEF076F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BA7-2B75-4511-8DAF-37C94AF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F8E-7063-4063-9CE6-7FB4A4C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A6E-EA8B-4173-AB7D-F351F68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2787-E3D5-4259-815B-789DC81B6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1981080"/>
            <a:ext cx="5886360" cy="66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rth American Tall Tales contain a glorious mixture of the humor, bravado, and a pioneer spirit that was needed to tame a wilderness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Brown and Benchmark, </a:t>
            </a: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Children’s Literature in the Elementary School,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aggerated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o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ckwood exploits of American frontiers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riginated in the 18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http://www.infopleas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049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merican Tall 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my Baringer, Susan Dodwell, Tara Fior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Cindy Novak, Jennifer Sturg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146196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29528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518148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16:08:38Z</dcterms:created>
  <dc:creator>AACPS User</dc:creator>
  <dc:description/>
  <dc:language>en-US</dc:language>
  <cp:lastModifiedBy>Dodwell</cp:lastModifiedBy>
  <dcterms:modified xsi:type="dcterms:W3CDTF">2006-06-26T20:57:43Z</dcterms:modified>
  <cp:revision>2</cp:revision>
  <dc:subject/>
  <dc:title>Slide 1</dc:title>
</cp:coreProperties>
</file>